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A51-676F-4F8F-B09F-0F163EC1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03B-E46B-404A-B4E8-23A17126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2FB-3952-4265-BA9B-ABA8ADD9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92-0B31-4D06-AAED-8A630480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C87-E1F3-49BD-B7E4-1FDA8CDC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ED1-AC5C-40E1-A717-C1BD1D09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3A0-DDAF-443B-A240-68FD361D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76E-585A-4531-83DB-4379997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F3A-08D9-48D9-BD96-5AFB09A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93B-8100-444F-A58C-58267B6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2F0-6D05-4613-8FD4-FE7669E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AB4-CA67-4B9C-8D78-061744A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3B9-3C83-4D35-B08C-708F458E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PCA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purpose of the PCA is to determine the level of organisational development and to identify area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ed data can be presented in cobweb or graph for easy illustration of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berate choice is made to associate organisational growth to stages of hum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143000"/>
          <a:ext cx="80773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077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b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850920" y="3068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V="1">
            <a:off x="5076720" y="2997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2916000" y="4365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3924360" y="4869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5076720" y="4869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543564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421164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5292720" y="350028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292360" y="4292640"/>
            <a:ext cx="431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H="1">
            <a:off x="3634920" y="3500280"/>
            <a:ext cx="57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3635280" y="436572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4211640" y="5157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3203280" y="328464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>
            <a:off x="3203640" y="436572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3995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5508720" y="4292280"/>
            <a:ext cx="647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H="1" flipV="1">
            <a:off x="5508360" y="3141360"/>
            <a:ext cx="7189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4067280" y="3141360"/>
            <a:ext cx="144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V="1">
            <a:off x="3851280" y="5805000"/>
            <a:ext cx="18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H="1">
            <a:off x="5724360" y="429264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2916360" y="4365720"/>
            <a:ext cx="9349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2916360" y="3068280"/>
            <a:ext cx="9349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 flipV="1">
            <a:off x="385128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5724360" y="2924280"/>
            <a:ext cx="7192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 flipH="1">
            <a:off x="3779640" y="566100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435640" y="5516640"/>
            <a:ext cx="288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 flipV="1">
            <a:off x="5580000" y="28522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 flipV="1">
            <a:off x="4067280" y="3789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4067280" y="4365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427640" y="486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 flipH="1">
            <a:off x="5076360" y="4292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H="1" flipV="1">
            <a:off x="5076360" y="3789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4427640" y="3789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>
            <a:off x="3203640" y="4365720"/>
            <a:ext cx="244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H="1" flipV="1">
            <a:off x="5579640" y="3499920"/>
            <a:ext cx="7164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 flipV="1">
            <a:off x="3276720" y="3141720"/>
            <a:ext cx="223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1"/>
          <p:cNvSpPr/>
          <p:nvPr/>
        </p:nvSpPr>
        <p:spPr>
          <a:xfrm flipH="1" flipV="1">
            <a:off x="5508720" y="3141720"/>
            <a:ext cx="71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349236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378000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363528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3924360" y="400536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421164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8"/>
          <p:cNvSpPr/>
          <p:nvPr/>
        </p:nvSpPr>
        <p:spPr>
          <a:xfrm>
            <a:off x="406728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435600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0"/>
          <p:cNvSpPr/>
          <p:nvPr/>
        </p:nvSpPr>
        <p:spPr>
          <a:xfrm>
            <a:off x="450072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1"/>
          <p:cNvSpPr/>
          <p:nvPr/>
        </p:nvSpPr>
        <p:spPr>
          <a:xfrm flipH="1" flipV="1">
            <a:off x="4642920" y="3644640"/>
            <a:ext cx="73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2"/>
          <p:cNvSpPr/>
          <p:nvPr/>
        </p:nvSpPr>
        <p:spPr>
          <a:xfrm flipV="1">
            <a:off x="4932360" y="34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3"/>
          <p:cNvSpPr/>
          <p:nvPr/>
        </p:nvSpPr>
        <p:spPr>
          <a:xfrm flipV="1">
            <a:off x="478800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4"/>
          <p:cNvSpPr/>
          <p:nvPr/>
        </p:nvSpPr>
        <p:spPr>
          <a:xfrm>
            <a:off x="50767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5"/>
          <p:cNvSpPr/>
          <p:nvPr/>
        </p:nvSpPr>
        <p:spPr>
          <a:xfrm>
            <a:off x="5292720" y="3284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6"/>
          <p:cNvSpPr/>
          <p:nvPr/>
        </p:nvSpPr>
        <p:spPr>
          <a:xfrm flipV="1">
            <a:off x="5435640" y="3213000"/>
            <a:ext cx="7308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7"/>
          <p:cNvSpPr/>
          <p:nvPr/>
        </p:nvSpPr>
        <p:spPr>
          <a:xfrm flipH="1" flipV="1">
            <a:off x="5508360" y="3284280"/>
            <a:ext cx="14292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8"/>
          <p:cNvSpPr/>
          <p:nvPr/>
        </p:nvSpPr>
        <p:spPr>
          <a:xfrm flipV="1">
            <a:off x="5148360" y="3357720"/>
            <a:ext cx="7128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9"/>
          <p:cNvSpPr/>
          <p:nvPr/>
        </p:nvSpPr>
        <p:spPr>
          <a:xfrm flipH="1" flipV="1">
            <a:off x="5364000" y="3284280"/>
            <a:ext cx="216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H="1" flipV="1">
            <a:off x="4572000" y="3645000"/>
            <a:ext cx="712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1"/>
          <p:cNvSpPr/>
          <p:nvPr/>
        </p:nvSpPr>
        <p:spPr>
          <a:xfrm flipH="1" flipV="1">
            <a:off x="4211280" y="3789000"/>
            <a:ext cx="73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GES OF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 born organisation. Like an infant, the organization is mainly dependant on few significant others, often known as foun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keep the newborn alive, the founders do all within their capacity to nurtur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born suffers from the shortage of basic needs: financial, technical, managerial and need to be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ganizations are usually under-funded and under-staff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ew members are busy implementing all kinds of activities to keep the infant organization alive and out of da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embers play multiple roles; responsibilities overlap without any system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Tod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ike the newborn organization, the toddler can stand and walk on its f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/she engages in diverse activities to utilise the new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ddler could walk astray with energy. Similarly, organizations see opportunities and pursue each with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hough founders are the key to keep the organisation moving, they involve management and technical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doles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 some what maturing organization with adequate human and othe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a good mix of skills in staff, management and gover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shared sense of ownership by staff and management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rganisation takes time to plan, learn and refl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basic administrative, financial and management structure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 high standard organization with all systems functio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, personnel and other policies and procedures are well developed and in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sion is clearly articulated and understood by all stakeh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 goals are set, monitored and achieved with confid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high level of accountability at all levels and a sense of ownership of the organization by all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5:12Z</dcterms:created>
  <dc:creator>Extension</dc:creator>
  <dc:description/>
  <dc:language>en-US</dc:language>
  <cp:lastModifiedBy>extension</cp:lastModifiedBy>
  <dcterms:modified xsi:type="dcterms:W3CDTF">2009-12-07T11:04:55Z</dcterms:modified>
  <cp:revision>14</cp:revision>
  <dc:subject/>
  <dc:title>Slide 1</dc:title>
</cp:coreProperties>
</file>